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14B4-B12D-47B0-AD28-451665E462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A82A-C077-41A9-ADE1-3AB9BD215C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F7CC-FFD6-4CCD-A300-28DAB30C8C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356F-FA83-4C62-944F-711AB7D607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B56E-05A5-4D90-A301-90328332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1096-43D7-4D33-A884-99111A3CD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D89CE-EB18-4AC5-A502-C18CE0685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B77DA-1E50-4031-9668-CF4946F18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C206-5FFE-4A22-A1A1-7DE4F4801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2FBB-BAC5-47EF-B7E8-FDE60D247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50C4-E762-45D6-82E7-8B6A1A895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DA06-3466-4319-82D0-895F2ECA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D110-A4E6-4694-B789-E3E21A7BC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C8420-253C-4E7E-A268-84ED3224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53193-CAE6-4031-BD2D-E1B5FC256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227C2-0326-4129-A30C-8E838C7C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3</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Research and Theory</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04C-8208-4CF7-8AC3-96210C4C947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ources of Data</a:t>
            </a:r>
            <a:endParaRPr b="0" lang="en-US" sz="40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on family violence comes from many sourc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BI: Uniform Crime Report, NIBRS, Supplementary Homicide Report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reau of Justice Statistics: NCVS, State Court Processing Statistics, Federal Justice Statistics, Survey of Inmates in State, Federal, and Local Correctional Facilit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enters for Disease Control—NISV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valuating the Source</a:t>
            </a:r>
            <a:endParaRPr b="0" lang="en-US" sz="40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btained on the internet must be evaluated thoroughly to be reliable. Utilize the Six-Step Model.</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s must be cited properl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both APA and MLA formats are available in books, software programs, and on the Internet.</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 Theory</a:t>
            </a:r>
            <a:endParaRPr b="0" lang="en-US" sz="4000" spc="-1" strike="noStrike">
              <a:solidFill>
                <a:srgbClr val="ffffff"/>
              </a:solidFill>
              <a:latin typeface="Verdana"/>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ries are the ideas that provide a framework for investigating the cause and effect relationship of event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ries from the Social Scienc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Schoo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Choice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rence Theory</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2"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sitive School—Biological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ic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chemical Imbalance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logical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e of Violence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Disorganization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in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Role Theory</a:t>
            </a:r>
            <a:endParaRPr b="0" lang="en-US" sz="2400" spc="-1" strike="noStrike">
              <a:solidFill>
                <a:srgbClr val="000000"/>
              </a:solidFill>
              <a:latin typeface="Verdana"/>
            </a:endParaRPr>
          </a:p>
          <a:p>
            <a:pPr lvl="3" marL="1200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sitive School—Psychological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Learning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havior Modeling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generational Transmission Theory</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ntrol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achment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 Pathology and Male Abu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lict Schoo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riarchal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 Inequality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clusion</a:t>
            </a:r>
            <a:endParaRPr b="0" lang="en-US" sz="4000" spc="-1" strike="noStrike">
              <a:solidFill>
                <a:srgbClr val="ffffff"/>
              </a:solidFill>
              <a:latin typeface="Verdana"/>
            </a:endParaRPr>
          </a:p>
        </p:txBody>
      </p:sp>
      <p:sp>
        <p:nvSpPr>
          <p:cNvPr id="1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School, with its legalistic approach, is the one that most criminal justice students find memorable.</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itive Theory contains the most diverse options for examining family abuse.</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the early biological explanations rest on racist and sexist foundations, they have been discredited. </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 theories such as the biochemical imbalance and neurological theories are offered from the study of medical conditions rather than physical characteristics..</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value of research to understanding family violenc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historical significance of the Minneapolis Domestic Violence Experimen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quantitative and qualitative research.</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major sources of data on family violenc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three major schools of theory and some of the varied approaches that attempt to explain intimate partner violenc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earch</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is important because it offers a way to reconcile our personal reality with experiential reality.</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ing research provides opportunities to replicate studies in order to help avoid overgeneralization, selective observation, and illogical reasoning.</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way in which we try to understand family violence is by measuring it.</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on agency response and personal responsibility help shape our organizations and provide funds.</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pplied Research</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me is a social problem that may be better understood and addressed through scientific inquir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e research is conducted for the sake of knowledge, whereas applied research centers around problems affecting people from a practical standpoi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national study of intimate partner violence, Behind Closed Doors, reported that spouses strike partners in one of every six households (1980).</a:t>
            </a: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us, Gelles, &amp; Steinmetz, 1980)</a:t>
            </a:r>
            <a:endParaRPr b="0" lang="en-US" sz="1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DV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controlled, randomized test of the effectiveness of arrest for intimate partner violence occurred in the </a:t>
            </a:r>
            <a:r>
              <a:rPr b="1" lang="en-US" sz="2400" spc="-1" strike="noStrike">
                <a:solidFill>
                  <a:srgbClr val="000000"/>
                </a:solidFill>
                <a:latin typeface="Verdana"/>
              </a:rPr>
              <a:t>Minneapolis Domestic Violence Experiment </a:t>
            </a:r>
            <a:r>
              <a:rPr b="0" lang="en-US" sz="2400" spc="-1" strike="noStrike">
                <a:solidFill>
                  <a:srgbClr val="000000"/>
                </a:solidFill>
                <a:latin typeface="Verdana"/>
              </a:rPr>
              <a:t>(1980).</a:t>
            </a:r>
            <a:endParaRPr b="0" lang="en-US" sz="2400" spc="-1" strike="noStrike">
              <a:solidFill>
                <a:srgbClr val="000000"/>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udy assessed the effects of various police responses, including arrest, and suggested that the arrest of the perpetrator produced the least amount of repeat violence for the same victims within a six-month period.</a:t>
            </a:r>
            <a:endParaRPr b="0" lang="en-US" sz="2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erman &amp; Berk, 1984)</a:t>
            </a:r>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DVE</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equent violence was reduced by nearly 50% when the suspect was arrested, as opposed to other interventions.</a:t>
            </a:r>
            <a:endParaRPr b="0" lang="en-US" sz="2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erman &amp; Berk, 1984)</a:t>
            </a:r>
            <a:endParaRPr b="0" lang="en-US" sz="1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Verdana"/>
              </a:rPr>
              <a:t>Thurman v. City of Torrington</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t>
            </a:r>
            <a:r>
              <a:rPr b="0" i="1" lang="en-US" sz="2400" spc="-1" strike="noStrike">
                <a:solidFill>
                  <a:srgbClr val="000000"/>
                </a:solidFill>
                <a:latin typeface="Verdana"/>
              </a:rPr>
              <a:t>Thurman v. City of Torrington </a:t>
            </a:r>
            <a:r>
              <a:rPr b="0" lang="en-US" sz="2400" spc="-1" strike="noStrike">
                <a:solidFill>
                  <a:srgbClr val="000000"/>
                </a:solidFill>
                <a:latin typeface="Verdana"/>
              </a:rPr>
              <a:t>(1984), the court determined that the victim of domestic violence had been denied equal protection under the Fourteenth Amendment when police failed to protect her from her estranged husband who severely beat her and caused her permanent harm.</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Suits and Statutes</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suits brought against police agencies were a contributing factor in changing laws to include mandatory arrest, whether or not the act was witnessed by the officer.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utes have broadened the definitions and legislative protections. These definitions, provisions for protection, and enforcement vary widely between jurisdictions. All states, Washington, DC, and Puerto Rico have enacted some form of domestic violence legislation.</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141768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earch Methods</a:t>
            </a:r>
            <a:endParaRPr b="0" lang="en-US" sz="4000" spc="-1" strike="noStrike">
              <a:solidFill>
                <a:srgbClr val="ffffff"/>
              </a:solidFill>
              <a:latin typeface="Verdana"/>
            </a:endParaRPr>
          </a:p>
        </p:txBody>
      </p:sp>
      <p:sp>
        <p:nvSpPr>
          <p:cNvPr id="161" name="PlaceHolder 2"/>
          <p:cNvSpPr>
            <a:spLocks noGrp="1"/>
          </p:cNvSpPr>
          <p:nvPr>
            <p:ph/>
          </p:nvPr>
        </p:nvSpPr>
        <p:spPr>
          <a:xfrm>
            <a:off x="380520" y="152352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Quantitative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162" name=""/>
          <p:cNvSpPr txBox="1"/>
          <p:nvPr/>
        </p:nvSpPr>
        <p:spPr>
          <a:xfrm>
            <a:off x="456840" y="2174760"/>
            <a:ext cx="4040280" cy="3951360"/>
          </a:xfrm>
          <a:prstGeom prst="rect">
            <a:avLst/>
          </a:prstGeom>
          <a:noFill/>
          <a:ln w="0">
            <a:noFill/>
          </a:ln>
        </p:spPr>
        <p:txBody>
          <a:bodyPr anchor="t">
            <a:normAutofit/>
          </a:bodyPr>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tive mode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relevant term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eric desig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tific survey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the NCVS and the UCR</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3"/>
          <p:cNvSpPr>
            <a:spLocks noGrp="1"/>
          </p:cNvSpPr>
          <p:nvPr>
            <p:ph/>
          </p:nvPr>
        </p:nvSpPr>
        <p:spPr>
          <a:xfrm>
            <a:off x="3504960" y="15235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Qualitative</a:t>
            </a:r>
            <a:endParaRPr b="0" lang="en-US" sz="2400" spc="-1" strike="noStrike">
              <a:solidFill>
                <a:srgbClr val="000000"/>
              </a:solidFill>
              <a:latin typeface="Verdana"/>
            </a:endParaRPr>
          </a:p>
        </p:txBody>
      </p:sp>
      <p:sp>
        <p:nvSpPr>
          <p:cNvPr id="16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s at phenomena in the natural sett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numeric desig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the characteristics of a popul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directional research effort</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0:05Z</dcterms:modified>
  <cp:revision>79</cp:revision>
  <dc:subject/>
  <dc:title>Slide 1</dc:title>
</cp:coreProperties>
</file>